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07DC-6A8F-48DA-B904-B2CF02A5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0D2-593C-4C31-8C05-EDE654BA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ED9-0127-4966-B857-036DD101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28C7-A42A-49C9-91A0-57B12F82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C61-F081-4E03-89C0-5DAD43E2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D4B-E70E-46BF-BD8D-92D0C0A4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E80-A2DF-40B5-96FC-4CA7A116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54D-C1B9-4E93-BDDF-0B3C3D8D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AB1-DC32-4C0B-B562-3C2FE7D6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39E-AC55-4AB1-9FD7-8C75DC89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4EF-1EC6-4C97-A520-DB12A81F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F49-987C-4452-9A92-C4663A32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9985-DB4B-4A6B-A78A-EE194BFC3A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s partes da planta</a:t>
            </a:r>
            <a:endParaRPr b="0" lang="en-US" sz="54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 spd="med" advTm="3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i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a vez que a maioria das raízes são subterrâneas e portanto não facilmente visíveis, nossa tendência é ignorá-las e desmerecê-la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03640" y="3933720"/>
            <a:ext cx="2143440" cy="21337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a curiosidade é que as plantas primitivas só tinham caule ! Estes são tidos como precursores das folhas e assim ancestrais do próprio sistema caulinar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caule promove interligação entre raiz e folha, levando a seiva bruta da raiz para as fol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2009880" cy="2266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lha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s folhas, ocorre a fotossíntese, que é um processo de produção de glicose e oxigênio. Este processo tem como um de seus componentes a luz do sol. A luz é formada por feixes de diferentes comprimentos onda. Cada comprimento é de uma cor. Essas são as cores primária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12000" y="2349360"/>
            <a:ext cx="1990440" cy="23050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lor                                             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 flor é uma folha modificada do vegetal, de crescimento limitado, contendo as estruturas reprodutivas da planta Giniceu (parte feminina), Androceu (parte masculina).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 pétala funciona como atrativo.Cada espécie evoluiu suas flores em tamanho, forma e cor, para se adaptar aos seus determinados     polinizadore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2276640"/>
            <a:ext cx="2467080" cy="18475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uto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orrendo a fecundação, o óvulo origina a semente, e o ovário, o fruto. O fruto protege as sementes e prepara o solo, facilitando a germinaçã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651640" y="4149720"/>
            <a:ext cx="2152440" cy="20001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23:09:41Z</dcterms:created>
  <dc:creator>VALERIA</dc:creator>
  <dc:description/>
  <dc:language>en-US</dc:language>
  <cp:lastModifiedBy>VALERIA</cp:lastModifiedBy>
  <dcterms:modified xsi:type="dcterms:W3CDTF">2010-12-02T01:33:53Z</dcterms:modified>
  <cp:revision>3</cp:revision>
  <dc:subject/>
  <dc:title>As partes da planta</dc:title>
</cp:coreProperties>
</file>